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29722-5CDA-4E8E-83A1-19470C10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F014-DB09-4E5F-82CA-8D2D5819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11298-C2DE-45F3-A07D-61357C33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7B93-16CB-4CFF-A483-0C8FF0DB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82A8-6D3B-4675-BF89-1E0992DD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8548-32AD-422A-B535-6EE035EB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831F-6371-4FCD-9DCC-3C564B01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9F2B-189A-4105-B214-0875E30B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180F-B9C4-4C2B-9503-85297524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EE41-A841-4236-9443-2DF25CC4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CE3F-CE50-4B10-8B7C-0187C0BA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71E0A-1BAD-4C95-8C6D-B60EAB32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D2CC-ADE5-407B-92E5-BFFAD453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01DD-75EB-4D67-AD53-1A667671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99F3-5250-41F6-B68E-4ACF5DA1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8536-B5D0-42BC-B2BD-61BA1212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5B4D-50D9-4379-B3A5-96302A35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F1266-AC14-4B96-BBFD-BD1D2732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6670-50E9-479E-AD9F-EE787965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56AA-03C1-4952-B361-E9294205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88FD-8994-4E54-B6B5-42A65AC9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B1B06-6534-4949-9730-C754B6C3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67924-0F49-4D87-97AD-B222A1EF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3985D-6104-481F-8A4E-D1225E7E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DB18-4ACF-4108-BEB2-2D2350888F0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8744-6EB4-433E-91FB-1F78F469D23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3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78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Бляска милост, фар небесен –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Господния престол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зи фар да пазим яс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е сме длъжни в земний дол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рате, пръскай в шира тъмен ти спасителни зар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якой скитник там заблуд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оже да избавиш 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На греха нощта е тъм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ясно там вълна буч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ърси бряг душата мор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пасителни лъч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рате, пръскай в шира тъмен ти спасителни зар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якой скитник там заблуд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оже да избавиш 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19628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войта слаба свещ, о, брат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вга в мрака не гас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еден скитник в далнинит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твоя фар ще се спаси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рате, пръскай в шира тъмен ти спасителни зар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якой скитник там заблуде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оже да избавиш т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10-02T08:05:42Z</dcterms:modified>
  <cp:revision>174</cp:revision>
  <dc:subject/>
  <dc:title>Slide 1</dc:title>
</cp:coreProperties>
</file>